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323-5144-4AE6-9985-F2537C3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67-175D-4B04-9FFD-8ABE1BC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CEA-5DF8-4BBC-92AD-246A7664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059-140A-4174-95B5-533B6C09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CD2-1021-4448-8BAC-46A1F1B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EDD-7FD7-4DEB-B4C0-86C1B6B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1BD-66ED-4EDF-939C-6F6320BC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760-6A4A-4D18-B6EA-87A1CE1C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266-1621-4D6A-A146-F0FAB5D8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63C-96C3-4101-8364-BD9DEEA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450-F193-4688-BD7E-AB94F4ED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F17-A769-4268-A4E2-B3DD611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59E0-E79E-48F1-BA7C-A7BF81DE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36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ord-Size Optimization for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ow Energy, Variable Workload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Sub-threshold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hanshu Khanna, Anurag Ni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E 632 – 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k4fs, an2z&gt;@virginia.e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two 32-bit number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word-size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gge-Stone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ple Carry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ord-size (1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bit taken for simplicity, the trends would be valid for other word-sizes e.g. 16-bit, 8-bi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is taken as a sample digital function. However, trends founds can be generalized to other digital function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Kogge-Stone Adder (KSA), 32-bit Ripple Carry Adder (R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" y="2133720"/>
            <a:ext cx="8547120" cy="3470400"/>
            <a:chOff x="228600" y="2133720"/>
            <a:chExt cx="8547120" cy="3470400"/>
          </a:xfrm>
        </p:grpSpPr>
        <p:sp>
          <p:nvSpPr>
            <p:cNvPr id="137" name=""/>
            <p:cNvSpPr/>
            <p:nvPr/>
          </p:nvSpPr>
          <p:spPr>
            <a:xfrm>
              <a:off x="1511280" y="2971800"/>
              <a:ext cx="1752480" cy="66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3809880"/>
              <a:ext cx="175284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3352680"/>
              <a:ext cx="17524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3124080"/>
              <a:ext cx="20574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KSA or 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31240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88620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4800" y="3429000"/>
              <a:ext cx="838440" cy="228600"/>
            </a:xfrm>
            <a:prstGeom prst="rightArrow">
              <a:avLst>
                <a:gd name="adj1" fmla="val 50000"/>
                <a:gd name="adj2" fmla="val 91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21337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572000"/>
              <a:ext cx="533520" cy="838080"/>
            </a:xfrm>
            <a:prstGeom prst="up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984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31240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160" y="39117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40384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3809880"/>
              <a:ext cx="75960" cy="457200"/>
            </a:xfrm>
            <a:prstGeom prst="upArrow">
              <a:avLst>
                <a:gd name="adj1" fmla="val 50000"/>
                <a:gd name="adj2" fmla="val 1504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5640" y="422928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572000"/>
              <a:ext cx="76320" cy="457200"/>
            </a:xfrm>
            <a:prstGeom prst="upArrow">
              <a:avLst>
                <a:gd name="adj1" fmla="val 50000"/>
                <a:gd name="adj2" fmla="val 149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5003640"/>
              <a:ext cx="6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87520" y="213372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438280"/>
              <a:ext cx="76320" cy="533520"/>
            </a:xfrm>
            <a:prstGeom prst="downArrow">
              <a:avLst>
                <a:gd name="adj1" fmla="val 50000"/>
                <a:gd name="adj2" fmla="val 17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4648320"/>
              <a:ext cx="3886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 = Parallel input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 = Parallel input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 = Parallel output from Sum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9320" y="28954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01920" y="36320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0360" y="3187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467480" y="251460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2209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Word Siz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2057400"/>
            <a:ext cx="5314320" cy="1389600"/>
            <a:chOff x="1447920" y="2057400"/>
            <a:chExt cx="5314320" cy="1389600"/>
          </a:xfrm>
        </p:grpSpPr>
        <p:sp>
          <p:nvSpPr>
            <p:cNvPr id="164" name=""/>
            <p:cNvSpPr/>
            <p:nvPr/>
          </p:nvSpPr>
          <p:spPr>
            <a:xfrm>
              <a:off x="3917880" y="2057400"/>
              <a:ext cx="122976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-bit Full 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9376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608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2200" y="246528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8440" y="243504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2200" y="2117520"/>
              <a:ext cx="1153800" cy="2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9200" y="217800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230184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46360" y="261612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000" y="25398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7032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313992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19240" y="3279600"/>
              <a:ext cx="40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360" y="25304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295280" y="3809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an n-bit word system will have n-bit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maller word-size be n. Then the system will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a 32-bit system, but only smal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 &lt;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4361040"/>
            <a:ext cx="8305560" cy="2304000"/>
            <a:chOff x="609480" y="4361040"/>
            <a:chExt cx="8305560" cy="2304000"/>
          </a:xfrm>
        </p:grpSpPr>
        <p:sp>
          <p:nvSpPr>
            <p:cNvPr id="182" name=""/>
            <p:cNvSpPr/>
            <p:nvPr/>
          </p:nvSpPr>
          <p:spPr>
            <a:xfrm>
              <a:off x="609480" y="4361040"/>
              <a:ext cx="82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case n = 1, the system will take 32 clock cycles to add two 32-bit numbers. Hence the higher dela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390680" y="5275440"/>
              <a:ext cx="5447520" cy="1389600"/>
              <a:chOff x="1390680" y="5275440"/>
              <a:chExt cx="5447520" cy="1389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922560" y="5275440"/>
                <a:ext cx="1260720" cy="725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-bit Full Ad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97540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47408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58720" y="568332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5240" y="565308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58720" y="5335560"/>
                <a:ext cx="1182960" cy="271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09600" y="539604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7680" y="551988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1680" y="583416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3280" y="5757840"/>
                <a:ext cx="4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12864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0680" y="6357960"/>
                <a:ext cx="86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6400" y="6497640"/>
                <a:ext cx="41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93400" y="574848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118280" y="5123160"/>
              <a:ext cx="179676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1-bit Serial Adder (S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2720" y="3443400"/>
            <a:ext cx="99864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5600" y="3413160"/>
            <a:ext cx="1230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Ful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64400" y="5075280"/>
            <a:ext cx="115236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2040" y="5075280"/>
            <a:ext cx="100008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8520" y="3352680"/>
            <a:ext cx="123048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79000" y="371484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63120" y="3714840"/>
            <a:ext cx="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6400" y="53467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1760" y="53467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49720" y="5346720"/>
            <a:ext cx="92232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3120" y="4621320"/>
            <a:ext cx="69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840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07316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148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03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4024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627280"/>
            <a:ext cx="13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1480" y="5165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6164280"/>
            <a:ext cx="22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632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1024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7920" y="59817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9920" y="382104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56160" y="379080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43560" y="303516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9920" y="3473280"/>
            <a:ext cx="11541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96920" y="353376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4080" y="36241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94080" y="39718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124080"/>
            <a:ext cx="5227560" cy="1436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08296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317016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840280" y="153828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440" y="181116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149560" y="144792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7360" y="162864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96920" y="199224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082960"/>
            <a:ext cx="69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96920" y="1992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3960" y="389556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5720" y="389556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10320" y="38955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8480" y="353376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18480" y="317016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10320" y="317016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1804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89120" y="4440240"/>
            <a:ext cx="1000080" cy="9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516564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1-bit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eptual fully-serial 1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Serial Adder (SA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ull-Ad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317680"/>
            <a:ext cx="1827000" cy="72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200400"/>
            <a:ext cx="18288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8880" y="2735280"/>
            <a:ext cx="182736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6520" y="2484360"/>
            <a:ext cx="198756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87800" y="4492800"/>
            <a:ext cx="1827360" cy="83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03520" y="25686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33210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2819520"/>
            <a:ext cx="874800" cy="83880"/>
          </a:xfrm>
          <a:prstGeom prst="rightArrow">
            <a:avLst>
              <a:gd name="adj1" fmla="val 50000"/>
              <a:gd name="adj2" fmla="val 260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1397160"/>
            <a:ext cx="557280" cy="920520"/>
          </a:xfrm>
          <a:prstGeom prst="downArrow">
            <a:avLst>
              <a:gd name="adj1" fmla="val 50000"/>
              <a:gd name="adj2" fmla="val 412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4073400"/>
            <a:ext cx="557280" cy="920880"/>
          </a:xfrm>
          <a:prstGeom prst="upArrow">
            <a:avLst>
              <a:gd name="adj1" fmla="val 50000"/>
              <a:gd name="adj2" fmla="val 413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6973920" y="1815840"/>
            <a:ext cx="557280" cy="919080"/>
          </a:xfrm>
          <a:prstGeom prst="downArrow">
            <a:avLst>
              <a:gd name="adj1" fmla="val 50000"/>
              <a:gd name="adj2" fmla="val 41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94360" y="3236760"/>
            <a:ext cx="79560" cy="503280"/>
          </a:xfrm>
          <a:prstGeom prst="upArrow">
            <a:avLst>
              <a:gd name="adj1" fmla="val 50000"/>
              <a:gd name="adj2" fmla="val 158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75560" y="3711600"/>
            <a:ext cx="9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08280" y="4073400"/>
            <a:ext cx="79200" cy="503280"/>
          </a:xfrm>
          <a:prstGeom prst="upArrow">
            <a:avLst>
              <a:gd name="adj1" fmla="val 50000"/>
              <a:gd name="adj2" fmla="val 1588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54824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139716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08280" y="1731960"/>
            <a:ext cx="79200" cy="585720"/>
          </a:xfrm>
          <a:prstGeom prst="downArrow">
            <a:avLst>
              <a:gd name="adj1" fmla="val 50000"/>
              <a:gd name="adj2" fmla="val 184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3360" y="482760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340524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40524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3360" y="373968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7080" y="4073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65616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5105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32-bit word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ut parallel adder replaced by 1-bit full adder =&gt; LOWER SLEEP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32 cycles but is amenable for use in a an un-modified 32-bit wor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82720" y="22334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3000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16640" y="251316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14810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drawn for addition of two 32-bit numbers is measured for all the 4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and register power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Metric: Energy per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438280"/>
            <a:ext cx="3047760" cy="16765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0481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97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ord-siz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4495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4267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d-siz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Energy @ VDD =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" y="1143000"/>
            <a:ext cx="8076960" cy="4038120"/>
            <a:chOff x="457200" y="1143000"/>
            <a:chExt cx="8076960" cy="4038120"/>
          </a:xfrm>
        </p:grpSpPr>
        <p:graphicFrame>
          <p:nvGraphicFramePr>
            <p:cNvPr id="290" name=""/>
            <p:cNvGraphicFramePr/>
            <p:nvPr/>
          </p:nvGraphicFramePr>
          <p:xfrm>
            <a:off x="457200" y="1143000"/>
            <a:ext cx="8076960" cy="403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143000"/>
                      <a:ext cx="8076960" cy="40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180320" y="1143000"/>
              <a:ext cx="840600" cy="59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494160" y="1479600"/>
              <a:ext cx="73512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1780560"/>
              <a:ext cx="157464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dyn ~ Etot ~ 6p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But leakage current is 1.7x l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5181480"/>
            <a:ext cx="800100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hows that active energy of 1-bit system &lt; 32-bi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40% active energy benefit @ 22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33x reduction in leakage current (note that above plot is only showing active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581280"/>
            <a:ext cx="1523880" cy="60984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8120" y="4114800"/>
            <a:ext cx="3047760" cy="152388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@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40% lower active E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33x lesser leakage current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-bit SA has 1.7x lesser leakage current than 32-bit 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648320" y="2209680"/>
            <a:ext cx="2743200" cy="1067040"/>
            <a:chOff x="4648320" y="2209680"/>
            <a:chExt cx="2743200" cy="1067040"/>
          </a:xfrm>
        </p:grpSpPr>
        <p:sp>
          <p:nvSpPr>
            <p:cNvPr id="301" name=""/>
            <p:cNvSpPr/>
            <p:nvPr/>
          </p:nvSpPr>
          <p:spPr>
            <a:xfrm rot="10800000">
              <a:off x="4648320" y="2209680"/>
              <a:ext cx="2743200" cy="1067040"/>
            </a:xfrm>
            <a:prstGeom prst="wedgeEllipseCallout">
              <a:avLst>
                <a:gd name="adj1" fmla="val -30731"/>
                <a:gd name="adj2" fmla="val 64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2286000"/>
              <a:ext cx="1752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us multi-cycle operation doesn’t increase active energy too mu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0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8120" y="5791320"/>
            <a:ext cx="5105160" cy="1066680"/>
          </a:xfrm>
          <a:prstGeom prst="wedgeEllipseCallout">
            <a:avLst>
              <a:gd name="adj1" fmla="val -14365"/>
              <a:gd name="adj2" fmla="val -70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59562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&gt; if word-size limited to 32, serial addition will save energy if the application has lot of sleep time e.g. in sensor nodes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048120" y="5791320"/>
            <a:ext cx="5105160" cy="1066680"/>
            <a:chOff x="3048120" y="5791320"/>
            <a:chExt cx="5105160" cy="1066680"/>
          </a:xfrm>
        </p:grpSpPr>
        <p:sp>
          <p:nvSpPr>
            <p:cNvPr id="311" name=""/>
            <p:cNvSpPr/>
            <p:nvPr/>
          </p:nvSpPr>
          <p:spPr>
            <a:xfrm>
              <a:off x="3048120" y="5791320"/>
              <a:ext cx="5105160" cy="1066680"/>
            </a:xfrm>
            <a:prstGeom prst="wedgeEllipseCallout">
              <a:avLst>
                <a:gd name="adj1" fmla="val -14365"/>
                <a:gd name="adj2" fmla="val -702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595620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&gt; if word-size limited to 32, serial addition will save energy if the application has lot of sleep time e.g. in sensor no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1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94360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DD incs =&gt; delay d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make small-word size systems faster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mpact of the VDD increase on Energy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0404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884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102520" y="6082920"/>
            <a:ext cx="152280" cy="228600"/>
            <a:chOff x="8102520" y="6082920"/>
            <a:chExt cx="152280" cy="228600"/>
          </a:xfrm>
        </p:grpSpPr>
        <p:sp>
          <p:nvSpPr>
            <p:cNvPr id="325" name=""/>
            <p:cNvSpPr/>
            <p:nvPr/>
          </p:nvSpPr>
          <p:spPr>
            <a:xfrm flipV="1">
              <a:off x="810252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17848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848720" y="3352680"/>
            <a:ext cx="761400" cy="558360"/>
            <a:chOff x="7848720" y="3352680"/>
            <a:chExt cx="761400" cy="558360"/>
          </a:xfrm>
        </p:grpSpPr>
        <p:sp>
          <p:nvSpPr>
            <p:cNvPr id="328" name=""/>
            <p:cNvSpPr/>
            <p:nvPr/>
          </p:nvSpPr>
          <p:spPr>
            <a:xfrm>
              <a:off x="7933320" y="373932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335268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920" y="3048120"/>
            <a:ext cx="1904760" cy="3580920"/>
            <a:chOff x="304920" y="3048120"/>
            <a:chExt cx="1904760" cy="3580920"/>
          </a:xfrm>
        </p:grpSpPr>
        <p:sp>
          <p:nvSpPr>
            <p:cNvPr id="331" name=""/>
            <p:cNvSpPr/>
            <p:nvPr/>
          </p:nvSpPr>
          <p:spPr>
            <a:xfrm>
              <a:off x="304920" y="4190760"/>
              <a:ext cx="1904760" cy="159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3581280"/>
              <a:ext cx="0" cy="609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57909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142640" y="6401160"/>
              <a:ext cx="152280" cy="227880"/>
              <a:chOff x="1142640" y="6401160"/>
              <a:chExt cx="152280" cy="22788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1142640" y="6476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218600" y="64011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080" y="3048120"/>
              <a:ext cx="761040" cy="558360"/>
              <a:chOff x="838080" y="3048120"/>
              <a:chExt cx="761040" cy="558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22680" y="3434760"/>
                <a:ext cx="54972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8080" y="3048120"/>
                <a:ext cx="76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352680" y="4191120"/>
            <a:ext cx="1905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791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191120" y="6400440"/>
            <a:ext cx="152280" cy="228600"/>
            <a:chOff x="4191120" y="6400440"/>
            <a:chExt cx="152280" cy="228600"/>
          </a:xfrm>
        </p:grpSpPr>
        <p:sp>
          <p:nvSpPr>
            <p:cNvPr id="344" name=""/>
            <p:cNvSpPr/>
            <p:nvPr/>
          </p:nvSpPr>
          <p:spPr>
            <a:xfrm flipV="1">
              <a:off x="419112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6708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3429000"/>
            <a:ext cx="761760" cy="558360"/>
            <a:chOff x="3886200" y="3429000"/>
            <a:chExt cx="761760" cy="558360"/>
          </a:xfrm>
        </p:grpSpPr>
        <p:sp>
          <p:nvSpPr>
            <p:cNvPr id="347" name=""/>
            <p:cNvSpPr/>
            <p:nvPr/>
          </p:nvSpPr>
          <p:spPr>
            <a:xfrm>
              <a:off x="397080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3504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790200">
            <a:off x="1828800" y="34290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5156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75240" y="6082920"/>
            <a:ext cx="152280" cy="228600"/>
            <a:chOff x="6375240" y="6082920"/>
            <a:chExt cx="152280" cy="228600"/>
          </a:xfrm>
        </p:grpSpPr>
        <p:sp>
          <p:nvSpPr>
            <p:cNvPr id="355" name=""/>
            <p:cNvSpPr/>
            <p:nvPr/>
          </p:nvSpPr>
          <p:spPr>
            <a:xfrm flipV="1">
              <a:off x="637524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45120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21440" y="3429000"/>
            <a:ext cx="761760" cy="558360"/>
            <a:chOff x="6121440" y="3429000"/>
            <a:chExt cx="761760" cy="558360"/>
          </a:xfrm>
        </p:grpSpPr>
        <p:sp>
          <p:nvSpPr>
            <p:cNvPr id="358" name=""/>
            <p:cNvSpPr/>
            <p:nvPr/>
          </p:nvSpPr>
          <p:spPr>
            <a:xfrm>
              <a:off x="620604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0800000">
            <a:off x="5423040" y="49528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0449200">
            <a:off x="7086600" y="37335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59120" y="3073320"/>
            <a:ext cx="3124440" cy="457200"/>
            <a:chOff x="3759120" y="3073320"/>
            <a:chExt cx="3124440" cy="457200"/>
          </a:xfrm>
        </p:grpSpPr>
        <p:sp>
          <p:nvSpPr>
            <p:cNvPr id="363" name=""/>
            <p:cNvSpPr/>
            <p:nvPr/>
          </p:nvSpPr>
          <p:spPr>
            <a:xfrm flipV="1">
              <a:off x="375912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88356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59120" y="30733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267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om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4380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373392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w we compare energy at constant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038480"/>
            <a:ext cx="87631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Small word-siz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more energy efficient even after the VDD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But the margins of energy benefits do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The same is not true in super-Vt !     WHY??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Difference in On-Current Equation in super-Vt and 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" y="990720"/>
            <a:ext cx="4140360" cy="3123720"/>
            <a:chOff x="457200" y="990720"/>
            <a:chExt cx="4140360" cy="3123720"/>
          </a:xfrm>
        </p:grpSpPr>
        <p:sp>
          <p:nvSpPr>
            <p:cNvPr id="373" name=""/>
            <p:cNvSpPr/>
            <p:nvPr/>
          </p:nvSpPr>
          <p:spPr>
            <a:xfrm>
              <a:off x="457200" y="190512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71600" y="1676520"/>
              <a:ext cx="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1600" y="3505320"/>
              <a:ext cx="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295280" y="3885840"/>
              <a:ext cx="152280" cy="228600"/>
              <a:chOff x="1295280" y="3885840"/>
              <a:chExt cx="152280" cy="22860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1295280" y="396180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371240" y="3885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1143000"/>
              <a:ext cx="761400" cy="558360"/>
              <a:chOff x="990720" y="1143000"/>
              <a:chExt cx="761400" cy="558360"/>
            </a:xfrm>
          </p:grpSpPr>
          <p:sp>
            <p:nvSpPr>
              <p:cNvPr id="380" name=""/>
              <p:cNvSpPr/>
              <p:nvPr/>
            </p:nvSpPr>
            <p:spPr>
              <a:xfrm>
                <a:off x="1075320" y="152964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114300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62120" y="23623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13280" y="1498680"/>
              <a:ext cx="0" cy="838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7720" y="311148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11760" y="3720600"/>
              <a:ext cx="152280" cy="228600"/>
              <a:chOff x="3911760" y="3720600"/>
              <a:chExt cx="152280" cy="2286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3911760" y="379656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987720" y="3720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657600" y="990720"/>
              <a:ext cx="761760" cy="558360"/>
              <a:chOff x="3657600" y="990720"/>
              <a:chExt cx="761760" cy="558360"/>
            </a:xfrm>
          </p:grpSpPr>
          <p:sp>
            <p:nvSpPr>
              <p:cNvPr id="389" name=""/>
              <p:cNvSpPr/>
              <p:nvPr/>
            </p:nvSpPr>
            <p:spPr>
              <a:xfrm>
                <a:off x="3742200" y="137736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657600" y="9907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590920" y="2286000"/>
              <a:ext cx="609480" cy="6858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54560" y="2324160"/>
              <a:ext cx="106668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8240" y="232416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 System small 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28960" y="1422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trained Sub-V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ower E in order to enable “lifelong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“FORM-FACTOR” =&gt; Are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 = Active E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0068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960640" cy="22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04920" y="-2556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2556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34120" y="2057400"/>
            <a:ext cx="18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182880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12193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04920" y="3048120"/>
          <a:ext cx="792468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8120"/>
                    <a:ext cx="7924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4734000" y="5613480"/>
            <a:ext cx="194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464832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92320" y="4915080"/>
            <a:ext cx="1708200" cy="465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8862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685800"/>
            <a:ext cx="5638680" cy="0"/>
          </a:xfrm>
          <a:prstGeom prst="line">
            <a:avLst/>
          </a:prstGeom>
          <a:ln w="349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43200" y="426672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DD change =&gt; no impact on 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-Optimal E-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175248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5638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er-Vt -&gt; 32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b-Vt -&gt; 1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429000"/>
            <a:ext cx="533520" cy="380880"/>
          </a:xfrm>
          <a:prstGeom prst="ellipse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886200"/>
            <a:ext cx="304920" cy="167652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2971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over: 1-bit system becoming optim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1828800"/>
            <a:ext cx="56386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ty of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bit system is used as an exam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and area benefits will b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hieved in any small word-siz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in pareto-optimal curve happens because of difference in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ence this behavior can be observed in other parts of a digital system as well, and not just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562720"/>
            <a:ext cx="2666880" cy="914400"/>
          </a:xfrm>
          <a:prstGeom prst="wedgeEllipseCallout">
            <a:avLst>
              <a:gd name="adj1" fmla="val -127203"/>
              <a:gd name="adj2" fmla="val -113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6516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s energy saving opportunities in more areas of digital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4120" y="480060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4800600"/>
            <a:ext cx="127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 System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onclusions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going into sub-Vt operation,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-look the word-size of the system being used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timal word-size goes down: Small word size gives lower E and Area and matche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01992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200400" y="6400440"/>
            <a:ext cx="152280" cy="228600"/>
            <a:chOff x="3200400" y="6400440"/>
            <a:chExt cx="152280" cy="228600"/>
          </a:xfrm>
        </p:grpSpPr>
        <p:sp>
          <p:nvSpPr>
            <p:cNvPr id="432" name=""/>
            <p:cNvSpPr/>
            <p:nvPr/>
          </p:nvSpPr>
          <p:spPr>
            <a:xfrm flipV="1">
              <a:off x="320040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27636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95480" y="3657600"/>
            <a:ext cx="761760" cy="558360"/>
            <a:chOff x="2895480" y="3657600"/>
            <a:chExt cx="761760" cy="558360"/>
          </a:xfrm>
        </p:grpSpPr>
        <p:sp>
          <p:nvSpPr>
            <p:cNvPr id="435" name=""/>
            <p:cNvSpPr/>
            <p:nvPr/>
          </p:nvSpPr>
          <p:spPr>
            <a:xfrm>
              <a:off x="2980080" y="40442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5480" y="36576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668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18040" y="4013280"/>
            <a:ext cx="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5575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791320" y="6171840"/>
            <a:ext cx="152280" cy="228600"/>
            <a:chOff x="5791320" y="6171840"/>
            <a:chExt cx="152280" cy="228600"/>
          </a:xfrm>
        </p:grpSpPr>
        <p:sp>
          <p:nvSpPr>
            <p:cNvPr id="441" name=""/>
            <p:cNvSpPr/>
            <p:nvPr/>
          </p:nvSpPr>
          <p:spPr>
            <a:xfrm flipV="1">
              <a:off x="5791320" y="62478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867280" y="6171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62720" y="3505320"/>
            <a:ext cx="761400" cy="558360"/>
            <a:chOff x="5562720" y="3505320"/>
            <a:chExt cx="761400" cy="558360"/>
          </a:xfrm>
        </p:grpSpPr>
        <p:sp>
          <p:nvSpPr>
            <p:cNvPr id="444" name=""/>
            <p:cNvSpPr/>
            <p:nvPr/>
          </p:nvSpPr>
          <p:spPr>
            <a:xfrm>
              <a:off x="5647320" y="389196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2720" y="350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97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20778000">
            <a:off x="4094280" y="3710160"/>
            <a:ext cx="885600" cy="176040"/>
          </a:xfrm>
          <a:prstGeom prst="rightArrow">
            <a:avLst>
              <a:gd name="adj1" fmla="val 50000"/>
              <a:gd name="adj2" fmla="val 12576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88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ergy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eakag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rea ($$$)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lay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952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ifferent Word-Siz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114300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( Digital Audio System – Sh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 ( Marc4 Micro controller, Intel 4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( Mic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l 8080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( Intel 8086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( Athlon 64, Opteron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457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4479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any real time DSP systems ( audio, video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-Tap 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71600" y="3048120"/>
                <a:ext cx="3505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129528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(i): Filte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4267080"/>
            <a:ext cx="64008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 Implementation of a Parallel FI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762120"/>
            <a:ext cx="7617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4172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036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864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8620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4036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849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275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6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3968640"/>
            <a:ext cx="167652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llel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52388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16292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8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2286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4440" y="490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5334120"/>
            <a:ext cx="5562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ilter Coeffici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d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124080" y="1371600"/>
            <a:ext cx="25909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ial Parallel Multi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466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3048120"/>
            <a:ext cx="198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bit Seria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572000"/>
            <a:ext cx="15238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057400"/>
            <a:ext cx="2286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Coefficients 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762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(n): serial input 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22860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286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0" y="281952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pperplate Gothic Bol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evel Problems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 of Super-threshold designs to sub-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673280" cy="167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3200400"/>
            <a:ext cx="457200" cy="3049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862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1981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Regulated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-chip, (expensive) DC-DC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505320"/>
            <a:ext cx="457200" cy="3045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2361960"/>
            <a:ext cx="4038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5909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1148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0292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4197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52578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60199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: K.Craig, R.Matthews, EE632 Fal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362320"/>
            <a:ext cx="4660920" cy="2660400"/>
            <a:chOff x="533520" y="2362320"/>
            <a:chExt cx="4660920" cy="26604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2362320"/>
              <a:ext cx="464832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13360" y="2438280"/>
              <a:ext cx="1218960" cy="12193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356360" y="2819160"/>
              <a:ext cx="83808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23623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“starting point” design more E-effici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for Sleep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438280"/>
            <a:ext cx="1905120" cy="3581280"/>
            <a:chOff x="1371600" y="2438280"/>
            <a:chExt cx="1905120" cy="3581280"/>
          </a:xfrm>
        </p:grpSpPr>
        <p:sp>
          <p:nvSpPr>
            <p:cNvPr id="73" name=""/>
            <p:cNvSpPr/>
            <p:nvPr/>
          </p:nvSpPr>
          <p:spPr>
            <a:xfrm>
              <a:off x="137160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09680" y="5790960"/>
              <a:ext cx="152280" cy="228600"/>
              <a:chOff x="2209680" y="5790960"/>
              <a:chExt cx="152280" cy="22860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220968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28564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905120" y="2438280"/>
              <a:ext cx="761400" cy="558360"/>
              <a:chOff x="1905120" y="2438280"/>
              <a:chExt cx="761400" cy="558360"/>
            </a:xfrm>
          </p:grpSpPr>
          <p:sp>
            <p:nvSpPr>
              <p:cNvPr id="80" name=""/>
              <p:cNvSpPr/>
              <p:nvPr/>
            </p:nvSpPr>
            <p:spPr>
              <a:xfrm>
                <a:off x="198972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512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394160" y="2438280"/>
            <a:ext cx="1905120" cy="3581280"/>
            <a:chOff x="4394160" y="2438280"/>
            <a:chExt cx="1905120" cy="3581280"/>
          </a:xfrm>
        </p:grpSpPr>
        <p:sp>
          <p:nvSpPr>
            <p:cNvPr id="83" name=""/>
            <p:cNvSpPr/>
            <p:nvPr/>
          </p:nvSpPr>
          <p:spPr>
            <a:xfrm>
              <a:off x="439416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856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232240" y="5790960"/>
              <a:ext cx="152280" cy="228600"/>
              <a:chOff x="5232240" y="5790960"/>
              <a:chExt cx="15228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523224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30820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927680" y="2438280"/>
              <a:ext cx="761400" cy="558360"/>
              <a:chOff x="4927680" y="2438280"/>
              <a:chExt cx="761400" cy="558360"/>
            </a:xfrm>
          </p:grpSpPr>
          <p:sp>
            <p:nvSpPr>
              <p:cNvPr id="90" name=""/>
              <p:cNvSpPr/>
              <p:nvPr/>
            </p:nvSpPr>
            <p:spPr>
              <a:xfrm>
                <a:off x="501228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2768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16765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60352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504960" y="4267080"/>
            <a:ext cx="609480" cy="152640"/>
          </a:xfrm>
          <a:prstGeom prst="left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971800" cy="1676520"/>
            <a:chOff x="5638680" y="1828800"/>
            <a:chExt cx="2971800" cy="1676520"/>
          </a:xfrm>
        </p:grpSpPr>
        <p:sp>
          <p:nvSpPr>
            <p:cNvPr id="97" name=""/>
            <p:cNvSpPr/>
            <p:nvPr/>
          </p:nvSpPr>
          <p:spPr>
            <a:xfrm>
              <a:off x="5638680" y="1828800"/>
              <a:ext cx="2971800" cy="1676520"/>
            </a:xfrm>
            <a:prstGeom prst="cloudCallout">
              <a:avLst>
                <a:gd name="adj1" fmla="val -106944"/>
                <a:gd name="adj2" fmla="val 857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133720"/>
              <a:ext cx="243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we optimize the Logic system for sub-Vt operation, or should it be the 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81080"/>
            <a:ext cx="4648320" cy="3581280"/>
            <a:chOff x="685800" y="1981080"/>
            <a:chExt cx="4648320" cy="358128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81080"/>
              <a:ext cx="1905120" cy="3581280"/>
              <a:chOff x="685800" y="1981080"/>
              <a:chExt cx="1905120" cy="358128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800" y="3124080"/>
                <a:ext cx="190512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2514600"/>
                <a:ext cx="0" cy="609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4724280"/>
                <a:ext cx="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23880" y="5333760"/>
                <a:ext cx="152280" cy="228600"/>
                <a:chOff x="1523880" y="5333760"/>
                <a:chExt cx="152280" cy="2286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523880" y="5409720"/>
                  <a:ext cx="152280" cy="152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599840" y="5333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219320" y="1981080"/>
                <a:ext cx="761400" cy="558360"/>
                <a:chOff x="1219320" y="1981080"/>
                <a:chExt cx="761400" cy="558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03920" y="2367720"/>
                  <a:ext cx="550080" cy="171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19320" y="1981080"/>
                  <a:ext cx="761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2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4343400" y="3581280"/>
              <a:ext cx="7621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3434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648320" y="4952520"/>
              <a:ext cx="152280" cy="228600"/>
              <a:chOff x="4648320" y="4952520"/>
              <a:chExt cx="152280" cy="2286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4648320" y="502848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724280" y="495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343400" y="2438280"/>
              <a:ext cx="761760" cy="558360"/>
              <a:chOff x="4343400" y="2438280"/>
              <a:chExt cx="761760" cy="5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4428000" y="282492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43400" y="2438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90720" y="35812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358128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ller Logic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693600">
              <a:off x="2209320" y="238716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819520" y="380988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34120" y="2362320"/>
            <a:ext cx="35049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system as small as fea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 it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ver and ove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ill the required operation is d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en goto sleep and leak les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715000"/>
            <a:ext cx="8610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we make the system smaller: USE A SMALLER WORD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 using the SMALL syste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ver and ove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 the ACTIVE Energ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O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n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6002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523880"/>
            <a:ext cx="403884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676520"/>
            <a:ext cx="411480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0x area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33x sleep energy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cycle operation increases Activ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final value of the Active E is about the same/lesser than that of a      32-bi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3333ff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es, delay degradation can be overcome !!!  while still being more energ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2:14:36Z</dcterms:created>
  <dc:creator>Sudhanshu</dc:creator>
  <dc:description/>
  <dc:language>en-US</dc:language>
  <cp:lastModifiedBy>Sudhanshu</cp:lastModifiedBy>
  <dcterms:modified xsi:type="dcterms:W3CDTF">2008-12-02T16:14:06Z</dcterms:modified>
  <cp:revision>57</cp:revision>
  <dc:subject/>
  <dc:title>Word-Size Optimization for  Low Energy, Variable Workload  Sub-threshold Systems</dc:title>
</cp:coreProperties>
</file>